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BBE8-C454-46DC-81BD-DEF2FA913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A6C5B-FFFE-4497-8382-34D6F0A54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2B754-61F1-40BC-B48F-116F14D8E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DC445-1607-4A25-820F-CD95CEFB9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89915-21D3-45F3-90BA-9DB2B3809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31E41-7E08-423B-AD5F-A7080CCED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CEF52-88E8-4876-8AE6-C085AC183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978AF-C0BF-4DAC-A2D2-47FD0831E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B9FA8-D52A-469E-B870-39C600683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3114D-2671-4926-9578-4B61E0002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575C0-2489-4D73-9A93-31C8F15AE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DBDA0-7652-45A8-97A1-E06849B52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8DA2E-C112-4E3E-A716-C4D90F7E4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87A2E-822E-4B93-8634-F9A468A5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ED3DD-080D-442C-A4AE-798FCA013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A695F-84F0-4F11-A283-8552F5D23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401E9-CE7C-4C0C-8FFF-53F48529F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5D04-8330-4D4A-8539-331BAE671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4947-5F66-49D6-8061-4E1F9109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A63C9-66C9-4DCE-9CE9-52EAB8555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2C576-FD8E-4067-A033-24F3AB563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6B52-AF4F-4BB7-B320-E4E6DB16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5895-A293-4799-9142-25E006AB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8234-5364-4CFC-A2ED-BC4EEC5F0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C4CA-8DC2-40D8-9AE6-341951430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849A-F4FC-4CB3-AF31-8C63E38EF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c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I’ve Got Style…What’s Your Style?</a:t>
            </a:r>
            <a:br>
              <a:rPr sz="4400"/>
            </a:br>
            <a:r>
              <a:rPr b="0" lang="en-US" sz="4400" spc="-1" strike="noStrike">
                <a:solidFill>
                  <a:srgbClr val="23005f"/>
                </a:solidFill>
                <a:latin typeface="Futura"/>
              </a:rPr>
              <a:t>Matching Students With Their Learning Style</a:t>
            </a:r>
            <a:br>
              <a:rPr sz="4400"/>
            </a:br>
            <a:endParaRPr b="0" lang="en-US" sz="4400" spc="-1" strike="noStrike">
              <a:solidFill>
                <a:srgbClr val="23005f"/>
              </a:solidFill>
              <a:latin typeface="Futura"/>
            </a:endParaRPr>
          </a:p>
        </p:txBody>
      </p:sp>
      <p:sp>
        <p:nvSpPr>
          <p:cNvPr id="85"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Researc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a-Gaye Gr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 702.2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view of Related Literature</a:t>
            </a:r>
            <a:endParaRPr b="0" lang="en-US" sz="4400" spc="-1" strike="noStrike">
              <a:solidFill>
                <a:srgbClr val="23005f"/>
              </a:solidFill>
              <a:latin typeface="Futura"/>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 for Style: It All Depends on Where You Look. (Tendy &amp; William, 1997)</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ow They Learn: A Review of the Literature on Learning Styles. (Wilson, 199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a-Analytic Validation of the Dunn and Dunn Model of Learning-Style Preferences. (Dunn, Griggs, Olson &amp; Beasley, 199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3"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Analysis of Experimental Research Based on the Dunn and Dunn Model. (Lovelace, 200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Based Teaching to Raise Minority Students Test Scores- </a:t>
            </a:r>
            <a:r>
              <a:rPr b="0" lang="en-US" sz="2000" spc="-1" strike="noStrike">
                <a:solidFill>
                  <a:srgbClr val="000000"/>
                </a:solidFill>
                <a:latin typeface="Arial"/>
              </a:rPr>
              <a:t>There’s No Debate! (Burke &amp; Dunn, 2002)</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act of Learning Styles on Achievement in Principles of Microeconomics: A Natural Experiment. (Terregrossa, Englander &amp; Englander,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s Who Faced Obstacles to Learning Styles Instruction. (Beglane, 200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 Learns to Read: Learning Styles at Work. (Hodgin &amp; Wooliscroft, 199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Individual Needs: A Learning Styles Success Story. (19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7" name="PlaceHolder 2"/>
          <p:cNvSpPr>
            <a:spLocks noGrp="1"/>
          </p:cNvSpPr>
          <p:nvPr>
            <p:ph/>
          </p:nvPr>
        </p:nvSpPr>
        <p:spPr>
          <a:xfrm>
            <a:off x="685800" y="16002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Learning-Styles Instructional Strategies on Students’ Achievement and Attitudes: Perceptions of Educators in Diverse Institutions. (Dunn, Honiggsfeld, Doolan, Bostrom, Russo, Schiering, Suh &amp; Tenendero, (200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Teaching Strategies to Learning Style Preferences. (Beck, 200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s: Humpty Dumpty Revisited. (Ivie, 200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for Educating Diverse Learners. (Dunn, 1995)</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Easy-to-Try Ways to Turn on Students. (Dunn, 19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Dunn Answers Questions on Learning Styles. (Educational Leadership, 19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atement of the Hypothesis</a:t>
            </a:r>
            <a:endParaRPr b="0" lang="en-US" sz="4400" spc="-1" strike="noStrike">
              <a:solidFill>
                <a:srgbClr val="23005f"/>
              </a:solidFill>
              <a:latin typeface="Futur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1: Integrating preferred learning styles over a six week period to 22 kindergarten students at PS X during work-times will increase on-task behavior and increase content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ethod</a:t>
            </a:r>
            <a:endParaRPr b="0" lang="en-US" sz="4400" spc="-1" strike="noStrike">
              <a:solidFill>
                <a:srgbClr val="23005f"/>
              </a:solidFill>
              <a:latin typeface="Futur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Participants (N)</a:t>
            </a:r>
            <a:r>
              <a:rPr b="0" lang="en-US" sz="3200" spc="-1" strike="noStrike">
                <a:solidFill>
                  <a:srgbClr val="000000"/>
                </a:solidFill>
                <a:latin typeface="Arial"/>
              </a:rPr>
              <a:t>- The present study was conducted with twenty-two kindergarten students in Brooklyn, New York. The students are from an intact class from a school with middle-to-high income families.  The class is evenly divided: 11 boys and 11 girls. Of all the students 65% were White, 30% were Black and 15% were Hispanic or As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ethod</a:t>
            </a:r>
            <a:endParaRPr b="0" lang="en-US" sz="4400" spc="-1" strike="noStrike">
              <a:solidFill>
                <a:srgbClr val="23005f"/>
              </a:solidFill>
              <a:latin typeface="Futur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Instrument(s)-</a:t>
            </a:r>
            <a:r>
              <a:rPr b="0" lang="en-US" sz="3200" spc="-1" strike="noStrike">
                <a:solidFill>
                  <a:srgbClr val="23005f"/>
                </a:solidFill>
                <a:latin typeface="Arial"/>
              </a:rPr>
              <a:t> </a:t>
            </a:r>
            <a:r>
              <a:rPr b="0" lang="en-US" sz="2400" spc="-1" strike="noStrike">
                <a:solidFill>
                  <a:srgbClr val="23005f"/>
                </a:solidFill>
                <a:latin typeface="Arial"/>
              </a:rPr>
              <a:t>The Learning Style Inventory -Primary Version for children in kindergarten through grade two is a pictorial questionnai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005f"/>
                </a:solidFill>
                <a:latin typeface="Arial"/>
              </a:rPr>
              <a:t>	</a:t>
            </a:r>
            <a:r>
              <a:rPr b="0" lang="en-US" sz="2400" spc="-1" strike="noStrike">
                <a:solidFill>
                  <a:srgbClr val="23005f"/>
                </a:solidFill>
                <a:latin typeface="Arial"/>
              </a:rPr>
              <a:t>The Dunn and Dunn Learning Style Inventory (LSI) for youth in grades 3-12 is a 104-item self -report questionnaire that identifies 22 elements relating to the environmental, emotional, sociological, physical, and psychological preferences of the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ferences</a:t>
            </a:r>
            <a:endParaRPr b="0" lang="en-US" sz="4400" spc="-1" strike="noStrike">
              <a:solidFill>
                <a:srgbClr val="23005f"/>
              </a:solidFill>
              <a:latin typeface="Futura"/>
            </a:endParaRPr>
          </a:p>
        </p:txBody>
      </p:sp>
      <p:sp>
        <p:nvSpPr>
          <p:cNvPr id="127" name="PlaceHolder 2"/>
          <p:cNvSpPr>
            <a:spLocks noGrp="1"/>
          </p:cNvSpPr>
          <p:nvPr>
            <p:ph/>
          </p:nvPr>
        </p:nvSpPr>
        <p:spPr>
          <a:xfrm>
            <a:off x="685800" y="685800"/>
            <a:ext cx="7772400" cy="586728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k, C. R. (2001). Matching Teaching Strategies to Learning Style Preferences. </a:t>
            </a:r>
            <a:r>
              <a:rPr b="0" i="1" lang="en-US" sz="1400" spc="-1" strike="noStrike">
                <a:solidFill>
                  <a:srgbClr val="000000"/>
                </a:solidFill>
                <a:latin typeface="Times New Roman Italic"/>
              </a:rPr>
              <a:t>Teacher Educator, </a:t>
            </a:r>
            <a:r>
              <a:rPr b="0" lang="en-US" sz="1400" spc="-1" strike="noStrike">
                <a:solidFill>
                  <a:srgbClr val="000000"/>
                </a:solidFill>
                <a:latin typeface="Times New Roman"/>
              </a:rPr>
              <a:t>37(1), 1-15.</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alane, E. T. (2001). Principles Who Faced Obstacles to Learning Styles Instructions. NASSP Bulletin, 85(627), 79-84. Doi: 10.1177/019263650108562709</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liavsky, N. (2006). Revisiting Vygotsky and Gardner Realizing Human Potential  [Electronic version], </a:t>
            </a:r>
            <a:r>
              <a:rPr b="0" i="1" lang="en-US" sz="1400" spc="-1" strike="noStrike">
                <a:solidFill>
                  <a:srgbClr val="000000"/>
                </a:solidFill>
                <a:latin typeface="Times New Roman Italic"/>
              </a:rPr>
              <a:t>Journal of Aesthetic Education,</a:t>
            </a:r>
            <a:r>
              <a:rPr b="0" lang="en-US" sz="1400" spc="-1" strike="noStrike">
                <a:solidFill>
                  <a:srgbClr val="000000"/>
                </a:solidFill>
                <a:latin typeface="Times New Roman"/>
              </a:rPr>
              <a:t> 40(2), 1-11.</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ke, K. &amp; Dunn, Rita. (2002).  Learning Style-Based Teaching to Raise Minority Student Test Scores- There’s No Debate, Clearing House, 76(2), 103-106.</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r, S. J. (2009).  Environmental Education in the Schoolyard: Learning Styles and Gender  [Electronic version].  </a:t>
            </a:r>
            <a:r>
              <a:rPr b="0" i="1" lang="en-US" sz="1400" spc="-1" strike="noStrike">
                <a:solidFill>
                  <a:srgbClr val="000000"/>
                </a:solidFill>
                <a:latin typeface="Times New Roman Italic"/>
              </a:rPr>
              <a:t>The Journal of Environmental Education</a:t>
            </a:r>
            <a:r>
              <a:rPr b="0" lang="en-US" sz="1400" spc="-1" strike="noStrike">
                <a:solidFill>
                  <a:srgbClr val="000000"/>
                </a:solidFill>
                <a:latin typeface="Times New Roman"/>
              </a:rPr>
              <a:t>, 40 (3), 2-12.</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ffield, F. C. (2005). Kinaesthetic nonsense. </a:t>
            </a:r>
            <a:r>
              <a:rPr b="0" lang="en-US" sz="1400" spc="-1" strike="noStrike">
                <a:solidFill>
                  <a:srgbClr val="000000"/>
                </a:solidFill>
                <a:latin typeface="Times New Roman Italic"/>
              </a:rPr>
              <a:t>Times Education Supplement,</a:t>
            </a:r>
            <a:r>
              <a:rPr b="0" lang="en-US" sz="1400" spc="-1" strike="noStrike">
                <a:solidFill>
                  <a:srgbClr val="000000"/>
                </a:solidFill>
                <a:latin typeface="Times New Roman"/>
              </a:rPr>
              <a:t> 14, 28-29.</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y, L. (1990). A critique of the research on learning styles. </a:t>
            </a:r>
            <a:r>
              <a:rPr b="0" lang="en-US" sz="1400" spc="-1" strike="noStrike">
                <a:solidFill>
                  <a:srgbClr val="000000"/>
                </a:solidFill>
                <a:latin typeface="Times New Roman Italic"/>
              </a:rPr>
              <a:t>Educational Leadership</a:t>
            </a:r>
            <a:r>
              <a:rPr b="0" lang="en-US" sz="1400" spc="-1" strike="noStrike">
                <a:solidFill>
                  <a:srgbClr val="000000"/>
                </a:solidFill>
                <a:latin typeface="Times New Roman"/>
              </a:rPr>
              <a:t>, 49, 50-52, 54-56.</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Bello, T. (1990). Comparison of eleven major learning styles models: Variables, appropriate populations, validity of instrumentation, and the research behind them</a:t>
            </a:r>
            <a:r>
              <a:rPr b="0" lang="en-US" sz="1400" spc="-1" strike="noStrike">
                <a:solidFill>
                  <a:srgbClr val="000000"/>
                </a:solidFill>
                <a:latin typeface="Times New Roman Italic"/>
              </a:rPr>
              <a:t>. Journal of Reading, Writing, and Learning Disabilities International</a:t>
            </a:r>
            <a:r>
              <a:rPr b="0" lang="en-US" sz="1400" spc="-1" strike="noStrike">
                <a:solidFill>
                  <a:srgbClr val="000000"/>
                </a:solidFill>
                <a:latin typeface="Times New Roman"/>
              </a:rPr>
              <a:t>, 6, 203-222.</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1990). Rita Dunn answers questions on learning styles.</a:t>
            </a:r>
            <a:r>
              <a:rPr b="0" i="1" lang="en-US" sz="1400" spc="-1" strike="noStrike">
                <a:solidFill>
                  <a:srgbClr val="000000"/>
                </a:solidFill>
                <a:latin typeface="Times New Roman Italic"/>
              </a:rPr>
              <a:t> Educational Leadership</a:t>
            </a:r>
            <a:r>
              <a:rPr b="0" lang="en-US" sz="1400" spc="-1" strike="noStrike">
                <a:solidFill>
                  <a:srgbClr val="000000"/>
                </a:solidFill>
                <a:latin typeface="Times New Roman"/>
              </a:rPr>
              <a:t>, 48(2), 15-19.</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amp; Dunn, K. (1992). Teaching elementary students through their individual learning style: Practical approaches for grades 3-6. Boston, MA: Allyn and Bacon. (372.1394 DUN- Book)</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amp; Dunn, K. (1992). Teaching secondary students through their individual learning style: Practical approaches for grades 7-12. Boston, MA: Allyn and Bacon. (373.1394 DUN- Book)</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1996). 19 Easy-to-try Ways to Turn on Students. </a:t>
            </a:r>
            <a:r>
              <a:rPr b="0" i="1" lang="en-US" sz="1400" spc="-1" strike="noStrike">
                <a:solidFill>
                  <a:srgbClr val="000000"/>
                </a:solidFill>
                <a:latin typeface="Times New Roman Italic"/>
              </a:rPr>
              <a:t>Teaching Pre K-8</a:t>
            </a:r>
            <a:r>
              <a:rPr b="0" lang="en-US" sz="1400" spc="-1" strike="noStrike">
                <a:solidFill>
                  <a:srgbClr val="000000"/>
                </a:solidFill>
                <a:latin typeface="Times New Roman"/>
              </a:rPr>
              <a:t>, 27(3), 50-51.</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1998). Timing is Everything. </a:t>
            </a:r>
            <a:r>
              <a:rPr b="0" i="1" lang="en-US" sz="1400" spc="-1" strike="noStrike">
                <a:solidFill>
                  <a:srgbClr val="000000"/>
                </a:solidFill>
                <a:latin typeface="Times New Roman Italic"/>
              </a:rPr>
              <a:t>Momentum,</a:t>
            </a:r>
            <a:r>
              <a:rPr b="0" lang="en-US" sz="1400" spc="-1" strike="noStrike">
                <a:solidFill>
                  <a:srgbClr val="000000"/>
                </a:solidFill>
                <a:latin typeface="Times New Roman"/>
              </a:rPr>
              <a:t> 29(4), 23-25.</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Denig, S., &amp; Lovelace, M. K. (2001). Multiple Intelligences and Learning Styles: Two Sides of the Same Coin or Different Strokes for Different Folks? </a:t>
            </a:r>
            <a:r>
              <a:rPr b="0" i="1" lang="en-US" sz="1400" spc="-1" strike="noStrike">
                <a:solidFill>
                  <a:srgbClr val="000000"/>
                </a:solidFill>
                <a:latin typeface="Times New Roman Italic"/>
              </a:rPr>
              <a:t>Teacher Librarian, </a:t>
            </a:r>
            <a:r>
              <a:rPr b="0" lang="en-US" sz="1400" spc="-1" strike="noStrike">
                <a:solidFill>
                  <a:srgbClr val="000000"/>
                </a:solidFill>
                <a:latin typeface="Times New Roman"/>
              </a:rPr>
              <a:t>28(3).</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Griggs, S. A., Olson, J., &amp; Beasley (1995). A Meta-Analytic Validation of the Dunn and Dunn Model of Learning-Style Preferences. </a:t>
            </a:r>
            <a:r>
              <a:rPr b="0" i="1" lang="en-US" sz="1400" spc="-1" strike="noStrike">
                <a:solidFill>
                  <a:srgbClr val="000000"/>
                </a:solidFill>
                <a:latin typeface="Times New Roman Italic"/>
              </a:rPr>
              <a:t>The Journal of Educational Research, </a:t>
            </a:r>
            <a:r>
              <a:rPr b="0" lang="en-US" sz="1400" spc="-1" strike="noStrike">
                <a:solidFill>
                  <a:srgbClr val="000000"/>
                </a:solidFill>
                <a:latin typeface="Times New Roman"/>
              </a:rPr>
              <a:t>88(6), 353-362.</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ference</a:t>
            </a:r>
            <a:endParaRPr b="0" lang="en-US" sz="4400" spc="-1" strike="noStrike">
              <a:solidFill>
                <a:srgbClr val="23005f"/>
              </a:solidFill>
              <a:latin typeface="Futura"/>
            </a:endParaRPr>
          </a:p>
        </p:txBody>
      </p:sp>
      <p:sp>
        <p:nvSpPr>
          <p:cNvPr id="12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Honigsfeld, A., Doolan, L. S., Bostrom, L., Russo, K., Schiering, M. S., Suh, B., &amp; Tenedero, H. (2009). Impact of Learning-Style Instructional Strategies on Students’ Achievement and Attitudes: Perceptions of Educators in Diverse Institutions. </a:t>
            </a:r>
            <a:r>
              <a:rPr b="0" i="1" lang="en-US" sz="1400" spc="-1" strike="noStrike">
                <a:solidFill>
                  <a:srgbClr val="000000"/>
                </a:solidFill>
                <a:latin typeface="Times New Roman Italic"/>
              </a:rPr>
              <a:t>A Journal of Educational Strategies, Issues and Ideas, </a:t>
            </a:r>
            <a:r>
              <a:rPr b="0" lang="en-US" sz="1400" spc="-1" strike="noStrike">
                <a:solidFill>
                  <a:srgbClr val="000000"/>
                </a:solidFill>
                <a:latin typeface="Times New Roman"/>
              </a:rPr>
              <a:t>82(3), 135-140.</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un, R., &amp; Honigsfeld, A. (2006). WHAT IF CHILDREN WERE GROUPED FOR READING WITH LEARNING-STYLE RESPONSIVE APPROACHES? </a:t>
            </a:r>
            <a:r>
              <a:rPr b="0" i="1" lang="en-US" sz="1400" spc="-1" strike="noStrike">
                <a:solidFill>
                  <a:srgbClr val="000000"/>
                </a:solidFill>
                <a:latin typeface="Times New Roman Italic"/>
              </a:rPr>
              <a:t>Reading Improvement, </a:t>
            </a:r>
            <a:r>
              <a:rPr b="0" lang="en-US" sz="1400" spc="-1" strike="noStrike">
                <a:solidFill>
                  <a:srgbClr val="000000"/>
                </a:solidFill>
                <a:latin typeface="Times New Roman"/>
              </a:rPr>
              <a:t>43(2), 70-76.</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amp; Phi Delta Kappa Educational Foundation, B. (1995).</a:t>
            </a:r>
            <a:r>
              <a:rPr b="0" i="1" lang="en-US" sz="1400" spc="-1" strike="noStrike">
                <a:solidFill>
                  <a:srgbClr val="000000"/>
                </a:solidFill>
                <a:latin typeface="Times New Roman Italic"/>
              </a:rPr>
              <a:t> Strategies for Educating Diverse Learners</a:t>
            </a:r>
            <a:r>
              <a:rPr b="0" lang="en-US" sz="1400" spc="-1" strike="noStrike">
                <a:solidFill>
                  <a:srgbClr val="000000"/>
                </a:solidFill>
                <a:latin typeface="Times New Roman"/>
              </a:rPr>
              <a:t>. Fastback 384. Retrieved from ERIC database</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iggs, S. A. (1991). Learning Styles Counseling. ERIC digest. ERIC Clearinghouse on Counseling and Personnel Services. (ED 341 890- Microfiche- Digest in ERIC Database)</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nigsfeld, A. &amp; Schiering, M. (2004). Diverse Approaches to the Diversity of Learning Styles in Teacher Education, Educational Psychology, 24(4), 487-507.</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dgin, J., &amp; Wooliscroft, C. (1997). Eric Learns to Read: Learning Styles at Work. </a:t>
            </a:r>
            <a:r>
              <a:rPr b="0" i="1" lang="en-US" sz="1400" spc="-1" strike="noStrike">
                <a:solidFill>
                  <a:srgbClr val="000000"/>
                </a:solidFill>
                <a:latin typeface="Times New Roman Italic"/>
              </a:rPr>
              <a:t>Educational Leadership,</a:t>
            </a:r>
            <a:r>
              <a:rPr b="0" lang="en-US" sz="1400" spc="-1" strike="noStrike">
                <a:solidFill>
                  <a:srgbClr val="000000"/>
                </a:solidFill>
                <a:latin typeface="Times New Roman"/>
              </a:rPr>
              <a:t> 54(6), 43-45.</a:t>
            </a:r>
            <a:endParaRPr b="0" lang="en-US" sz="1400" spc="-1" strike="noStrike">
              <a:solidFill>
                <a:srgbClr val="000000"/>
              </a:solidFill>
              <a:latin typeface="Arial"/>
            </a:endParaRPr>
          </a:p>
          <a:p>
            <a:pPr marL="332640" indent="-332640">
              <a:lnSpc>
                <a:spcPct val="90000"/>
              </a:lnSpc>
              <a:spcBef>
                <a:spcPts val="4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ndividual differences and learning styles." Retrieved from the Internet 5/5/2010 from http://www.cee.hw.ac.uk/~alison/ctl/ctl96/INDDIFF.html</a:t>
            </a:r>
            <a:endParaRPr b="0" lang="en-US" sz="16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vie, S. D. (2009). LEARNING STYLES: HUMPTY DUMPTY REVISITED. McGill JOURNAL OF EDUCATION, 44(2), 177-192.</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velace, M. K. (2005). Meta-Analysis of Experimental Research Based on the Dunn and Dunn Model. </a:t>
            </a:r>
            <a:r>
              <a:rPr b="0" i="1" lang="en-US" sz="1400" spc="-1" strike="noStrike">
                <a:solidFill>
                  <a:srgbClr val="000000"/>
                </a:solidFill>
                <a:latin typeface="Times New Roman Italic"/>
              </a:rPr>
              <a:t>Journal of Educational Research,</a:t>
            </a:r>
            <a:r>
              <a:rPr b="0" lang="en-US" sz="1400" spc="-1" strike="noStrike">
                <a:solidFill>
                  <a:srgbClr val="000000"/>
                </a:solidFill>
                <a:latin typeface="Times New Roman"/>
              </a:rPr>
              <a:t> 98(3), 176-183.</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ely, R. O., &amp; Alm, D. (1992). Meeting Individual Needs: A Learning Style Success Story. </a:t>
            </a:r>
            <a:r>
              <a:rPr b="0" lang="en-US" sz="1400" spc="-1" strike="noStrike">
                <a:solidFill>
                  <a:srgbClr val="000000"/>
                </a:solidFill>
                <a:latin typeface="Times New Roman Italic"/>
              </a:rPr>
              <a:t>Clearing House</a:t>
            </a:r>
            <a:r>
              <a:rPr b="0" lang="en-US" sz="1400" spc="-1" strike="noStrike">
                <a:solidFill>
                  <a:srgbClr val="000000"/>
                </a:solidFill>
                <a:latin typeface="Times New Roman"/>
              </a:rPr>
              <a:t>, 66(2), 109-113.</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arson, R. &amp; Dunn, R. (2001). The Learning-Style Teaching Model. </a:t>
            </a:r>
            <a:r>
              <a:rPr b="0" i="1" lang="en-US" sz="1400" spc="-1" strike="noStrike">
                <a:solidFill>
                  <a:srgbClr val="000000"/>
                </a:solidFill>
                <a:latin typeface="Times New Roman Italic"/>
              </a:rPr>
              <a:t>Science and Children, </a:t>
            </a:r>
            <a:r>
              <a:rPr b="0" lang="en-US" sz="1400" spc="-1" strike="noStrike">
                <a:solidFill>
                  <a:srgbClr val="000000"/>
                </a:solidFill>
                <a:latin typeface="Times New Roman"/>
              </a:rPr>
              <a:t>38(5), 22-26.</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Table of Content</a:t>
            </a:r>
            <a:endParaRPr b="0" lang="en-US" sz="4400" spc="-1" strike="noStrike">
              <a:solidFill>
                <a:srgbClr val="23005f"/>
              </a:solidFill>
              <a:latin typeface="Futur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tatement of the Problem                                                        3</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lated Literature                                             11-14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ment of the Hypothesis                                                  15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icipants (N)                                                                       16</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trument(s)                                                                           17</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erimental Design</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dure</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tions</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                                                                               18-20</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ces)                                                                          21-26</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ference</a:t>
            </a:r>
            <a:endParaRPr b="0" lang="en-US" sz="4400" spc="-1" strike="noStrike">
              <a:solidFill>
                <a:srgbClr val="23005f"/>
              </a:solidFill>
              <a:latin typeface="Futur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ughnessy, M. F. (1998). AN INTERVIEW WITH RITA DUNN ABOUT LEARNING STYLES. </a:t>
            </a:r>
            <a:r>
              <a:rPr b="0" i="1" lang="en-US" sz="1400" spc="-1" strike="noStrike">
                <a:solidFill>
                  <a:srgbClr val="000000"/>
                </a:solidFill>
                <a:latin typeface="Times New Roman Italic"/>
              </a:rPr>
              <a:t>Clearing House</a:t>
            </a:r>
            <a:r>
              <a:rPr b="0" lang="en-US" sz="1400" spc="-1" strike="noStrike">
                <a:solidFill>
                  <a:srgbClr val="000000"/>
                </a:solidFill>
                <a:latin typeface="Times New Roman"/>
              </a:rPr>
              <a:t>, 71(3), 141-145.</a:t>
            </a:r>
            <a:endParaRPr b="0" lang="en-US" sz="1400" spc="-1" strike="noStrike">
              <a:solidFill>
                <a:srgbClr val="000000"/>
              </a:solidFill>
              <a:latin typeface="Arial"/>
            </a:endParaRPr>
          </a:p>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dy, S., &amp; Geiser, W. (1997). The search for Style: It All Depends on Where You Look. Retrieved from ERIC database</a:t>
            </a:r>
            <a:endParaRPr b="0" lang="en-US" sz="1400" spc="-1" strike="noStrike">
              <a:solidFill>
                <a:srgbClr val="000000"/>
              </a:solidFill>
              <a:latin typeface="Arial"/>
            </a:endParaRPr>
          </a:p>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regrossa, R., Englander, F., &amp; Englander, V. (2009). The Impact of Learning Styles on Achievement in Principles of Microeconomics: A Natural Experiment.</a:t>
            </a:r>
            <a:r>
              <a:rPr b="0" i="1" lang="en-US" sz="1400" spc="-1" strike="noStrike">
                <a:solidFill>
                  <a:srgbClr val="000000"/>
                </a:solidFill>
                <a:latin typeface="Times New Roman Italic"/>
              </a:rPr>
              <a:t> College Student Journal,</a:t>
            </a:r>
            <a:r>
              <a:rPr b="0" lang="en-US" sz="1400" spc="-1" strike="noStrike">
                <a:solidFill>
                  <a:srgbClr val="000000"/>
                </a:solidFill>
                <a:latin typeface="Times New Roman"/>
              </a:rPr>
              <a:t> 43(2), 400-410.</a:t>
            </a:r>
            <a:endParaRPr b="0" lang="en-US" sz="1400" spc="-1" strike="noStrike">
              <a:solidFill>
                <a:srgbClr val="000000"/>
              </a:solidFill>
              <a:latin typeface="Arial"/>
            </a:endParaRPr>
          </a:p>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son, V. (1998). Learning How They Learn: A Review of the Literature on Learning Styles. Retrieved from ERIC database</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A</a:t>
            </a:r>
            <a:endParaRPr b="0" lang="en-US" sz="4400" spc="-1" strike="noStrike">
              <a:solidFill>
                <a:srgbClr val="23005f"/>
              </a:solidFill>
              <a:latin typeface="Futur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685800" y="160020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Observation Checklist by Linda Loken Emery</a:t>
            </a:r>
            <a:endParaRPr b="0" lang="en-US" sz="2000" spc="-1" strike="noStrike">
              <a:solidFill>
                <a:srgbClr val="23005f"/>
              </a:solidFill>
              <a:latin typeface="Futura"/>
            </a:endParaRPr>
          </a:p>
        </p:txBody>
      </p:sp>
      <p:sp>
        <p:nvSpPr>
          <p:cNvPr id="13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does quality work during quiet work time</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does quality work during regular work time</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does quality work during work time with music in background</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complains when there is too much sound present</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makes sounds or noises while working </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reminds others to be quiet while work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has difficulty sitting in position in circle-time arrangement </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enjoys lying down while watching television or listening to stories</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sits in chair correctly during work-time periods</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stands by work area at table during work-time perio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Observation Checklist by Linda Loken Emery</a:t>
            </a:r>
            <a:endParaRPr b="0" lang="en-US" sz="2000" spc="-1" strike="noStrike">
              <a:solidFill>
                <a:srgbClr val="23005f"/>
              </a:solidFill>
              <a:latin typeface="Futur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complete a project independently after directions are giv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complete a project step to ste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keeps work area ne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tends to misplace suppli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OLOGIC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work or play with a group of classmat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work or play with teacher nea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work or play alon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creates opportunities to visit with teacher on a one-to-one bas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a:t>
            </a:r>
            <a:r>
              <a:rPr b="0" lang="en-US" sz="1600" spc="-1" strike="noStrike">
                <a:solidFill>
                  <a:srgbClr val="c70000"/>
                </a:solidFill>
                <a:latin typeface="Futura"/>
              </a:rPr>
              <a:t>Observation</a:t>
            </a:r>
            <a:r>
              <a:rPr b="0" lang="en-US" sz="2000" spc="-1" strike="noStrike">
                <a:solidFill>
                  <a:srgbClr val="c70000"/>
                </a:solidFill>
                <a:latin typeface="Futura"/>
              </a:rPr>
              <a:t> Checklist by Linda Loken Emery</a:t>
            </a:r>
            <a:endParaRPr b="0" lang="en-US" sz="2000" spc="-1" strike="noStrike">
              <a:solidFill>
                <a:srgbClr val="23005f"/>
              </a:solidFill>
              <a:latin typeface="Futur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IBILITY AND PERSISTENCE</a:t>
            </a:r>
            <a:endParaRPr b="0" lang="en-US" sz="1400" spc="-1" strike="noStrike">
              <a:solidFill>
                <a:srgbClr val="000000"/>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quickly and neatly completes projec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quickly but not neatly completes projects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slowly and neatly completes projec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sometimes does not complete projec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works best when given specific instruction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independently cleans up work area upon completion of task</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needs to be reminded to clean up work area upon completion of task</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easily distracted while working on a project</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remembers homework assignmen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ITY</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is frequently out of chair during work period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often requests a drink of water or gets a tissue just to be able to move about the classroom</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is extremely active during free-play perio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Observation Checklist by Linda Loken Emery</a:t>
            </a:r>
            <a:endParaRPr b="0" lang="en-US" sz="2000" spc="-1" strike="noStrike">
              <a:solidFill>
                <a:srgbClr val="23005f"/>
              </a:solidFill>
              <a:latin typeface="Futur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works best with much assurance from others</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need teacher feedback while working</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does projects on own accord</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volunteers information about past experiences with discussion topics</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PTI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enjoys looking at books, filmstrips, and televisi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sits up from and is attentive during work time</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listen to records or tapes during work time</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remembers well what others sa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visi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enjoys playing with toys with small pieces</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draw or doodle</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enjoys physically moving around during work or pla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create play situations and react to th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C</a:t>
            </a:r>
            <a:endParaRPr b="0" lang="en-US" sz="4400" spc="-1" strike="noStrike">
              <a:solidFill>
                <a:srgbClr val="23005f"/>
              </a:solidFill>
              <a:latin typeface="Futura"/>
            </a:endParaRPr>
          </a:p>
        </p:txBody>
      </p:sp>
      <p:sp>
        <p:nvSpPr>
          <p:cNvPr id="144" name="PlaceHolder 2"/>
          <p:cNvSpPr>
            <a:spLocks noGrp="1"/>
          </p:cNvSpPr>
          <p:nvPr>
            <p:ph/>
          </p:nvPr>
        </p:nvSpPr>
        <p:spPr>
          <a:xfrm>
            <a:off x="685800" y="914040"/>
            <a:ext cx="7772400" cy="579132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ta-Gaye T. Grey</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oklyn Friends School</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75 Pearl Street</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oklyn, NY 11201</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18-852-1029</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Class X Parents,</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addition to being a teacher at Brooklyn Friends School, I am also a student in the Brooklyn College Masters of Education Program. As part of this program, I will be conducting a research study to learn more the effect of identifying a students learning style and their academic achievement. The audience of this study is teachers, researchers and education practitioners. I would appreciate your permission to have your child be a part of this study.</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udy would require me to identify your child preferred learning style by doing a questionnaire and observation.  Identifying your child’s learning style will help me to teach he/she the way they learn best which will increase academic achievement.</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r child’s name will not appear in the study.  Two copies of this request are enclosed. Please sign both copies and return on to me, keeping the other one for your files.</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ank you for your consideration.</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ncerely,</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ta-Gaye T. Gr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fter Thought</a:t>
            </a:r>
            <a:endParaRPr b="0" lang="en-US" sz="4400" spc="-1" strike="noStrike">
              <a:solidFill>
                <a:srgbClr val="23005f"/>
              </a:solidFill>
              <a:latin typeface="Futur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 “</a:t>
            </a:r>
            <a:r>
              <a:rPr b="0" lang="en-US" sz="3200" spc="-1" strike="noStrike">
                <a:solidFill>
                  <a:srgbClr val="c70000"/>
                </a:solidFill>
                <a:latin typeface="Arial"/>
              </a:rPr>
              <a:t>Considering these findings, should the educational profession consider regular education unethical? It does seem “immoral and illegal for certified teachers to negatively classify children who learn differently, instead of teaching them the way the learn” (Dunn et al. 1991,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atement of the Problem</a:t>
            </a:r>
            <a:endParaRPr b="0" lang="en-US" sz="4400" spc="-1" strike="noStrike">
              <a:solidFill>
                <a:srgbClr val="23005f"/>
              </a:solidFill>
              <a:latin typeface="Futur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ors, Practitioners and Researchers agree that all children can learn, but not all children learn in the same way. Even though we believe this, many of us are not embracing the idea or implementing a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Theorist</a:t>
            </a:r>
            <a:endParaRPr b="0" lang="en-US" sz="4400" spc="-1" strike="noStrike">
              <a:solidFill>
                <a:srgbClr val="23005f"/>
              </a:solidFill>
              <a:latin typeface="Futur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ard Gardner</a:t>
            </a:r>
            <a:endParaRPr b="0" lang="en-US" sz="2800" spc="-1" strike="noStrike">
              <a:solidFill>
                <a:srgbClr val="000000"/>
              </a:solidFill>
              <a:latin typeface="Arial"/>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amp; Kenneth Dunn</a:t>
            </a:r>
            <a:endParaRPr b="0" lang="en-US" sz="2800" spc="-1" strike="noStrike">
              <a:solidFill>
                <a:srgbClr val="000000"/>
              </a:solidFill>
              <a:latin typeface="Arial"/>
            </a:endParaRPr>
          </a:p>
        </p:txBody>
      </p:sp>
      <p:pic>
        <p:nvPicPr>
          <p:cNvPr id="93" name="" descr=""/>
          <p:cNvPicPr/>
          <p:nvPr/>
        </p:nvPicPr>
        <p:blipFill>
          <a:blip r:embed="rId1"/>
          <a:stretch/>
        </p:blipFill>
        <p:spPr>
          <a:xfrm>
            <a:off x="4876920" y="2514600"/>
            <a:ext cx="895320" cy="1406520"/>
          </a:xfrm>
          <a:prstGeom prst="rect">
            <a:avLst/>
          </a:prstGeom>
          <a:ln w="0">
            <a:noFill/>
          </a:ln>
        </p:spPr>
      </p:pic>
      <p:pic>
        <p:nvPicPr>
          <p:cNvPr id="94" name="" descr=""/>
          <p:cNvPicPr/>
          <p:nvPr/>
        </p:nvPicPr>
        <p:blipFill>
          <a:blip r:embed="rId2"/>
          <a:stretch/>
        </p:blipFill>
        <p:spPr>
          <a:xfrm>
            <a:off x="6324480" y="2514600"/>
            <a:ext cx="895320" cy="1406520"/>
          </a:xfrm>
          <a:prstGeom prst="rect">
            <a:avLst/>
          </a:prstGeom>
          <a:ln w="0">
            <a:noFill/>
          </a:ln>
        </p:spPr>
      </p:pic>
      <p:pic>
        <p:nvPicPr>
          <p:cNvPr id="95" name="" descr=""/>
          <p:cNvPicPr/>
          <p:nvPr/>
        </p:nvPicPr>
        <p:blipFill>
          <a:blip r:embed="rId3"/>
          <a:stretch/>
        </p:blipFill>
        <p:spPr>
          <a:xfrm>
            <a:off x="1523880" y="2514600"/>
            <a:ext cx="1289160" cy="1941480"/>
          </a:xfrm>
          <a:prstGeom prst="rect">
            <a:avLst/>
          </a:prstGeom>
          <a:ln w="0">
            <a:noFill/>
          </a:ln>
        </p:spPr>
      </p:pic>
      <p:sp>
        <p:nvSpPr>
          <p:cNvPr id="96" name=""/>
          <p:cNvSpPr/>
          <p:nvPr/>
        </p:nvSpPr>
        <p:spPr>
          <a:xfrm>
            <a:off x="762120" y="480060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multiple intelligence theory, there are nine basic types of intelligence.</a:t>
            </a:r>
            <a:endParaRPr b="0" lang="en-US" sz="2400" spc="-1" strike="noStrike">
              <a:solidFill>
                <a:srgbClr val="000000"/>
              </a:solidFill>
              <a:latin typeface="Arial"/>
            </a:endParaRPr>
          </a:p>
        </p:txBody>
      </p:sp>
      <p:sp>
        <p:nvSpPr>
          <p:cNvPr id="97" name=""/>
          <p:cNvSpPr/>
          <p:nvPr/>
        </p:nvSpPr>
        <p:spPr>
          <a:xfrm>
            <a:off x="4876920" y="487692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876920" y="4343400"/>
            <a:ext cx="320040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key learning styles of each student and matching instruction and learning activities with each student's sty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ros</a:t>
            </a:r>
            <a:endParaRPr b="0" lang="en-US" sz="4400" spc="-1" strike="noStrike">
              <a:solidFill>
                <a:srgbClr val="23005f"/>
              </a:solidFill>
              <a:latin typeface="Futur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eaching to the students’ learning style will improve scores (Dunn &amp; Dunn, 1992; Searson &amp; Dunn, 20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deliver content in ways that better match students’ strengths. This leads to increase academic performance and improved attitudes towards school (Beglane, 2001; Dunn et al. 2009;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ons</a:t>
            </a:r>
            <a:endParaRPr b="0" lang="en-US" sz="4400" spc="-1" strike="noStrike">
              <a:solidFill>
                <a:srgbClr val="23005f"/>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vie (2009) states “most of the supporting research cited by the Dunns comes from their own in-house studies of faculty who finished their doctoral work at St. John’s University. Few of this studies meet the standard of having been published in peer-reviewed journal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ons</a:t>
            </a:r>
            <a:endParaRPr b="0" lang="en-US" sz="4400" spc="-1" strike="noStrike">
              <a:solidFill>
                <a:srgbClr val="23005f"/>
              </a:solidFill>
              <a:latin typeface="Futur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tion of learning style theory encompasses three pervasive problems: confusion in definitions, weakness in measurement reliability and validity and identification of relevant learner characteristics (Curry, 199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ons</a:t>
            </a:r>
            <a:endParaRPr b="0" lang="en-US" sz="4400" spc="-1" strike="noStrike">
              <a:solidFill>
                <a:srgbClr val="23005f"/>
              </a:solidFill>
              <a:latin typeface="Futur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obvious from the different ideas of researchers that this could be problematic. The type of teaching method would depend on the framework used to determine students’ learning styles. They observe that learning style might best be described as situational, that is, depending on the particular situation in which the learning occurs. Moreover, they argue that many of the self-report inventories fail to differentiate between learners ("Individual differences and learning styles",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unn and Dunn Learning Style Model</a:t>
            </a:r>
            <a:endParaRPr b="0" lang="en-US" sz="4400" spc="-1" strike="noStrike">
              <a:solidFill>
                <a:srgbClr val="23005f"/>
              </a:solidFill>
              <a:latin typeface="Futur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685800" y="1905120"/>
            <a:ext cx="777240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1:20:27Z</dcterms:created>
  <dc:creator>DIMS BFS</dc:creator>
  <dc:description/>
  <dc:language>en-US</dc:language>
  <cp:lastModifiedBy>DIMS BFS</cp:lastModifiedBy>
  <cp:lastPrinted>2010-05-24T13:19:33Z</cp:lastPrinted>
  <dcterms:modified xsi:type="dcterms:W3CDTF">2010-05-24T13:27:47Z</dcterms:modified>
  <cp:revision>8</cp:revision>
  <dc:subject/>
  <dc:title>I’ve Got Style, You’ve Got Style…What’s Your Style? Matching Students With Their Learning Style </dc:title>
</cp:coreProperties>
</file>